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384-4B15-4063-8BF2-67A26809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64E-F983-433D-9F10-FC4400B6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F80-CD21-4D60-B504-43C675C3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894-B350-43EC-BD86-45EDC06F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467-3F1A-4D50-A0E6-81318759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451-9207-43B6-A76B-5D2E788E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D59-E9BC-4DF4-AA82-E811897C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2D5-1AF4-493A-AFB1-32C59354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2EB-D13E-407C-9CA8-447DCCAD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6D1-904D-4927-89DF-FA788FA2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988-CD5F-4404-86B7-7EE796B4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D87-7116-45D4-B034-D76B1E9A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6208-CEE8-4A5F-A5A9-AC931732A99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76280" y="765000"/>
            <a:ext cx="8191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380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رع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الرع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ذكر الرعد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4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محم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مال قدرة الله تعا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14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ية الو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البع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ستدلال بتوحيد الربوبية على توحيد الألوه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5"/>
          <p:cNvCxnSpPr/>
          <p:nvPr/>
        </p:nvCxnSpPr>
        <p:spPr>
          <a:xfrm flipH="1">
            <a:off x="8458920" y="380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4160" y="35733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صفات السعداء والأشقيا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2T10:16:42Z</dcterms:modified>
  <cp:revision>1807</cp:revision>
  <dc:subject/>
  <dc:title>عرض تقديمي في PowerPoint</dc:title>
</cp:coreProperties>
</file>